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09264-8D0E-41FD-9732-FE85E2B88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78DFE-13B7-45D8-B023-9ECF6D6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4D1C-748D-4C73-B58E-9D42D5C1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0300-AF85-4786-B626-D6DBBA6BFC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1C100-3C81-4D80-B2B4-0B8E8E4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A62D-5BE8-409C-885E-92D28170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805F-3D68-480A-B21C-D273D589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F8288-5647-4DC5-AE21-1172AA14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AD8E-2D9C-4CAC-BE0C-4A15F2C6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850C-763D-4C5A-BF88-694C8475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CF44-E6CB-4D81-B373-3A462E32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866A-819D-4CEA-8CBD-6A4A26B5D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DF43-7FF6-4AAC-9102-C12C5C665BE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治疗慢性心力衰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560" y="1371240"/>
            <a:ext cx="88390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Ⅱ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拮抗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物之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地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中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相结合，阻断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介导的血管收缩，水钠潴留，醛固酮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有血钾增高，低血压，罕见血管神经性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如氯沙坦（科素亚）、缬沙坦（代文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利尿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214280"/>
            <a:ext cx="86104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及作用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是心力衰竭治疗中改善症状的基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是心衰治疗中唯一能够控制体液潴留的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能作为单一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小管特定部位钠或氯的重吸收，遏制心力衰竭时的钠潴留，减少静脉回流而减轻肺瘀血，降低心脏前负荷而改善心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呋噻米、依他尼酸、布美他尼、托拉塞米、氢氯噻嗪、螺内脂、氨苯蝶啶、阿米洛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用于对正性肌力药和利尿药无效的心力衰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脏后负荷，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轻心脏前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左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静脉，降低前负荷，也略扩张小动脉，降低后负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冠心病、肺楔压增加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普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扩张小静脉和小动脉，使心脏前、后负荷下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急性心肌梗塞及高血压所致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较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肼屈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小动脉，降低后负荷，用药后心输出量增加，血压不变或略降，不引起反射性心率加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肾功能不良或不耐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扩张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药物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哌唑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静脉和动脉，用药后心输出量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缺血性心脏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效果显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硝苯地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舒张动脉较强，降低后负荷显著，能增加心输出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于对受损心脏可能发生抑制作用，一般不作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常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交感神经过度兴奋和上调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肾素血管紧张素系统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RAA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的激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抗心肌和血管增生、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YHA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功能分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en-US" sz="2800" spc="-1" strike="noStrike">
                <a:solidFill>
                  <a:srgbClr val="046ca6"/>
                </a:solidFill>
                <a:latin typeface="Symbol"/>
                <a:ea typeface="Symbol"/>
              </a:rPr>
              <a:t>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级者，以扩张型心肌病引起的心衰最为适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规药物治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无效时，可选用</a:t>
            </a:r>
            <a:r>
              <a:rPr b="0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禁忌症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心动过缓、二度及以上房室传导阻滞、严重周围血管疾病（如雷诺病）、重度急性心衰及支气管痉挛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注意事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必须与常规药物如地高辛、利尿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从小剂量起始，逐渐增加达最大耐受剂量并长期维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密切观察患者反应，以病人能够耐受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能用于抢救治疗急性失代偿性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571400"/>
            <a:ext cx="7715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治疗慢性心功能不全的药物分类及代表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强心苷对心脏的作用、作用机制、不良反应及中毒的防治措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心苷类药物的作用机制、体内过程、临床应用、不良反应及其防治、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章药物的分类、代表药物及作用机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药物的主要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功能不全的药物治疗目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正性肌力药物，加强心肌收缩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血管扩张剂和利尿剂，以减轻心脏前后负荷，并改善心室舒张期顺应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止或逆转心室重构、肥厚，防止和延缓心室重塑的进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强心苷类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rdiac glycosides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正性肌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负性频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电生理特性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神经系统的影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对心衰患者的利尿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充血性心力衰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律失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毒性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神经系统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个体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注意避免促发中毒的各种因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必要时监测血药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强心苷中毒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轻度中毒：停用强心苷及排钾利尿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者： ①氯化钾：口服； ②苯妥英钠及利多卡因纠正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071360"/>
            <a:ext cx="86104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房室传导阻滞，室性心律失常，病态窦房结综合征和预激综合征，梗阻性心肌病，主动脉瘤，严重的心肌衰竭性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开始治疗期评估，饮食指导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密切观察中毒的早期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警惕低钾的各种征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格按处方给药，不可随意加用其他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肾素血管紧张素醛固酮系统抑制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血管紧张素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Ⅰ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转化酶抑制剂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ACEI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及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ng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生成，改善血流动力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抑制心肌及血管的肥厚和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心力衰竭治疗的首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消除、缓解慢性心力衰竭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HF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患者症状，有效防止和逆转心肌肥厚，降低病死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咳嗽、肾功能一过性恶化、高血钾、血管性水肿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威胁生命的不良反应（血管性水肿和无尿性肾衰竭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妊娠妇女及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应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低血压、双侧肾动脉狭窄、血肌酐明显升高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65μ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、高血钾（＞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5mmol/L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非甾体类抗炎药会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疗效并加重其副作用，应避免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31:5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